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ECB-1F56-41A4-BEFE-8629DB8D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FE2-3C93-4788-A8F1-1B108488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E6E-B8C1-4D98-B2B5-B720C42D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C60-06A1-4209-8375-E7076D2D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1D8D-6261-49A1-9D4B-6619E40A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7BD0-66E8-40C7-A2DA-6F3CD8DA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DB4C-E85E-42A6-A642-AAF4599B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028D-A54F-41C9-9283-59508325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F436-E4AE-4008-99C3-724DB1F8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B49B-1287-4F80-B416-C16B624D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F72C-8852-41E5-BA31-F3C62C33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AB0-9744-4325-8CE2-9881E9BA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387C-5082-4CEE-983F-D6E21C29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2F81-9A96-43D7-A653-CE9B9D7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74F0-BB3C-4E2D-8AB9-63410713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56C8-A02B-4FCF-B924-1FBABDB3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170A-0CC3-4C1E-B526-832D788C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048-1D9E-4790-860D-3B1C1C87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CB6-A230-4389-93B7-BFE8454F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07E-FC7A-49A4-B656-2345A7CD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5F8-E4A0-4B34-90F2-38D81CF7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9BC-7E03-47D8-84E2-5FEFECC4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BF2-80D1-4CC5-86B9-5161528D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44C-316C-4617-9080-997375BC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6A38-CD7E-4AE6-9F9E-76DBF3757E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AB61-8F6A-486D-860B-F4D800F08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59280" y="1557000"/>
            <a:ext cx="5760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ccff"/>
                </a:solidFill>
                <a:latin typeface="Arial"/>
              </a:rPr>
              <a:t>Competen</a:t>
            </a:r>
            <a:r>
              <a:rPr b="0" lang="ro-RO" sz="4600" spc="-1" strike="noStrike">
                <a:solidFill>
                  <a:srgbClr val="99ccff"/>
                </a:solidFill>
                <a:latin typeface="Arial"/>
              </a:rPr>
              <a:t>țe digita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"/>
              </a:rPr>
              <a:t>Bacalaureat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257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Domenii de competență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Utilizarea computerului și organizarea fișier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ditoare de 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nformație și comun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cepte de bază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ditoare de calcul tabe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Baze de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ezentă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ucces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06800" y="2916360"/>
            <a:ext cx="3606840" cy="2347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36800" y="2462040"/>
            <a:ext cx="320508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Informați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420640"/>
            <a:ext cx="792504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Ministerul Educației, Cercetării și Sport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51280" y="4005360"/>
            <a:ext cx="14097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0:38:49Z</dcterms:created>
  <dc:creator>AS</dc:creator>
  <dc:description/>
  <dc:language>en-US</dc:language>
  <cp:lastModifiedBy>AS</cp:lastModifiedBy>
  <dcterms:modified xsi:type="dcterms:W3CDTF">2010-01-07T20:32:38Z</dcterms:modified>
  <cp:revision>12</cp:revision>
  <dc:subject/>
  <dc:title>Diapozitivul 1</dc:title>
</cp:coreProperties>
</file>